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7C30-FD84-4A7A-BB1C-A19768493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6501-543B-47AE-9C09-D078A3FE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4C8F-FDDA-4D16-8B6F-9BA3F2A62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768F-79F6-4A4E-8586-DAEECB9A7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B446-A93B-44CD-AA14-EA35494D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D122-2A7C-465F-836A-F60ADD25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8559-54E6-49E1-870C-B89C847E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9E19-9ADA-43F2-8866-EE30C2EA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3087-FB32-4B66-BD8F-F6D3E193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DD1C-CA68-4B77-8D13-7665E1ED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399D-D8C4-4575-863C-0765720D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4D3F-BF9B-4CD4-B86C-9F7650CA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F28F-871D-495B-8B23-7A9DE8D1E373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uclear Radi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atural Radioactivit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uclear Equa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ducing Radioactive Isotop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alf-Lif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uclear Fission and Fus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" name="bd06719_" descr=""/>
          <p:cNvPicPr/>
          <p:nvPr/>
        </p:nvPicPr>
        <p:blipFill>
          <a:blip r:embed="rId1"/>
          <a:stretch/>
        </p:blipFill>
        <p:spPr>
          <a:xfrm>
            <a:off x="5562720" y="4633920"/>
            <a:ext cx="2895480" cy="222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908F-F2D6-4C22-8EA6-717238EF3E5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lpha decay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47680" y="3276720"/>
          <a:ext cx="8763120" cy="119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3276720"/>
                    <a:ext cx="8763120" cy="11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12B8-435D-4072-B635-1203C3A69E8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eta decay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23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  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23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    +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9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  91            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ff9900"/>
                </a:solidFill>
                <a:latin typeface="Arial"/>
              </a:rPr>
              <a:t>beta particl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1F53-354F-44EF-870C-BA801F86B2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Gamma radi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No change in atomic or mass numb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11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11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B  +     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0 </a:t>
            </a:r>
            <a:r>
              <a:rPr b="1" lang="en-US" sz="3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5                                 5                 0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boron atom in a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igh-energy sta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3429000"/>
            <a:ext cx="1600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5550-16AD-4B76-B540-E557A5E648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NR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rite the nuclear equation for the beta emitter Co-60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3747-E300-448B-B6B7-3C99A61167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NR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Write the nuclear equation for th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Beta emitter  Co-60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60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60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Ni +     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0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e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27                           28                -1  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43200" y="403848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5EE4-C99A-4DC3-99CD-F5B47355BB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ducing Radioactive Isotop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ombardment of atoms produces radioisotop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= 60    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= 60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59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     +  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56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n   +    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27                      0          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25                      2 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= 27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= 27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obalt     neutron            manganese    alph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atom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  radioisotope   particle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81280" y="396252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87C1-8710-4143-A68A-9AB9B43EB5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NR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radioactive isotope is produced in the following bombardment of bor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     +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?   +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5                   2      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                 0 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29000" y="396252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7F61-1D24-4B21-86D0-815A2595C8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NR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radioactive isotope is produced in the following bombardment of bor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     +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+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5                   2      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        7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                        0 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itroge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radioisotop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396252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5CA5-3A51-49FC-82B7-CAE445B5A04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alf-Life of a Radioisotop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tim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r the radiation level to fall (decay) to one-half its initial valu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decay curv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8 mg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4 mg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 mg       1 mg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2971800"/>
            <a:ext cx="1067040" cy="2743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itia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66880" y="4267080"/>
            <a:ext cx="1067040" cy="1447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alf-lif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4952880"/>
            <a:ext cx="1066680" cy="7621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62720" y="5257800"/>
            <a:ext cx="106668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 rot="64200">
            <a:off x="2240640" y="-190080"/>
            <a:ext cx="9150120" cy="533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62" y="0"/>
                </a:moveTo>
                <a:arcTo wR="10800" hR="10800" stAng="-5380293" swAng="4508665"/>
                <a:lnTo>
                  <a:pt x="10800" y="10800"/>
                </a:lnTo>
                <a:close/>
              </a:path>
              <a:path fill="none" w="21600" h="21600">
                <a:moveTo>
                  <a:pt x="10862" y="0"/>
                </a:moveTo>
                <a:arcTo wR="10800" hR="10800" stAng="-5380293" swAng="4508665"/>
              </a:path>
            </a:pathLst>
          </a:cu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BD28-78F4-4DF1-BCE9-111408EEBE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xamples of Half-Lif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Isotope          Half lif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-15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.4 sec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a-22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.6 day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a-22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2 day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-125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60 day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-1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700 year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-235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710 000 000 year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05E2-583D-47A7-82A9-A9E288B51F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ubatomic Particl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tons- plus charge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 the nucleu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eutrons- neutral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lectrons - negative charge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utside the nucleu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2438280"/>
            <a:ext cx="990360" cy="685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114800" y="3123720"/>
            <a:ext cx="838080" cy="685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3124080"/>
            <a:ext cx="228600" cy="152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9" name="bd06978_" descr=""/>
          <p:cNvPicPr/>
          <p:nvPr/>
        </p:nvPicPr>
        <p:blipFill>
          <a:blip r:embed="rId1"/>
          <a:stretch/>
        </p:blipFill>
        <p:spPr>
          <a:xfrm>
            <a:off x="6477120" y="1295280"/>
            <a:ext cx="1793880" cy="1725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4C42-D411-4989-A033-94436D17F9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NR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he half life of I-123 is 13 hr.  How much of a 64 mg sample of I-123 is left after 26 hours?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8E24-9561-42D3-AFAE-D8031B80BE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NR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1/2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3 hrs      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6 hour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 x t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1/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mount initial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64mg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mount remaining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 64 mg  x ½  x ½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 16 mg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364D-661A-485F-80B6-D3CE5CBABC7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0" y="3124080"/>
            <a:ext cx="2286000" cy="167652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uclear Fiss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iss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large nuclei break up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235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U    +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    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139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  +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9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Kr + 3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  +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92                0                   56              36                 0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43800" y="2286000"/>
            <a:ext cx="1600200" cy="3124080"/>
          </a:xfrm>
          <a:prstGeom prst="irregularSeal2">
            <a:avLst/>
          </a:prstGeom>
          <a:solidFill>
            <a:srgbClr val="ff66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71800" y="3886200"/>
            <a:ext cx="609480" cy="0"/>
          </a:xfrm>
          <a:prstGeom prst="line">
            <a:avLst/>
          </a:prstGeom>
          <a:ln w="284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3" name="in00420_" descr=""/>
          <p:cNvPicPr/>
          <p:nvPr/>
        </p:nvPicPr>
        <p:blipFill>
          <a:blip r:embed="rId1"/>
          <a:stretch/>
        </p:blipFill>
        <p:spPr>
          <a:xfrm>
            <a:off x="2895480" y="4876920"/>
            <a:ext cx="2830680" cy="160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50B2-4A92-4B1B-8364-B74665F9CB9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iss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523880" y="2286000"/>
          <a:ext cx="6066000" cy="33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286000"/>
                    <a:ext cx="6066000" cy="33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441C-9D86-4681-AC62-4C732D22E6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248520" y="2590920"/>
            <a:ext cx="2895480" cy="2209680"/>
          </a:xfrm>
          <a:prstGeom prst="irregularSeal2">
            <a:avLst/>
          </a:prstGeom>
          <a:solidFill>
            <a:srgbClr val="ff66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uclear Fus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usion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mall nuclei combin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    +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        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e    +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  +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1                    1                        2                    0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ccurs in the sun and other star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2362320"/>
            <a:ext cx="1523880" cy="3124080"/>
          </a:xfrm>
          <a:prstGeom prst="irregularSeal2">
            <a:avLst/>
          </a:prstGeom>
          <a:solidFill>
            <a:srgbClr val="ff99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8120" y="3962520"/>
            <a:ext cx="990360" cy="0"/>
          </a:xfrm>
          <a:prstGeom prst="line">
            <a:avLst/>
          </a:prstGeom>
          <a:ln w="284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0B6A-94B5-4472-9452-E402721F102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248520" y="2590920"/>
            <a:ext cx="2895480" cy="2209680"/>
          </a:xfrm>
          <a:prstGeom prst="irregularSeal2">
            <a:avLst/>
          </a:prstGeom>
          <a:solidFill>
            <a:srgbClr val="ff66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NR4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dicate if each of the following ar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ission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2) fus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ucleus splits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Large amounts of energy release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mall nuclei form larger nuclei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ydrogen nuclei reac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91520" y="2362320"/>
            <a:ext cx="1523880" cy="3124080"/>
          </a:xfrm>
          <a:prstGeom prst="irregularSeal2">
            <a:avLst/>
          </a:prstGeom>
          <a:solidFill>
            <a:srgbClr val="ff99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2C5B-F380-4936-BBEB-B7AC00FFFBC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791320" y="2286000"/>
            <a:ext cx="2895480" cy="2209680"/>
          </a:xfrm>
          <a:prstGeom prst="irregularSeal2">
            <a:avLst/>
          </a:prstGeom>
          <a:solidFill>
            <a:srgbClr val="ff66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NR4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dicate if each of the following ar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ission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2) fus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1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Nucleus splits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1 + 2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Large amounts of energy release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2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Small nuclei form larger nuclei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2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Hydrogen nuclei reac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29400" y="1219320"/>
            <a:ext cx="1523880" cy="3124080"/>
          </a:xfrm>
          <a:prstGeom prst="irregularSeal2">
            <a:avLst/>
          </a:prstGeom>
          <a:solidFill>
            <a:srgbClr val="ff99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56CF-16AF-45CD-8165-26E5089C4F3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adi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adiation comes from the nucleus of an atom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nstable nucleus emits a particle or energy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lph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e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amm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4191120"/>
            <a:ext cx="1066680" cy="1371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2209680" y="3962520"/>
            <a:ext cx="2210040" cy="7617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4800600"/>
            <a:ext cx="1828800" cy="0"/>
          </a:xfrm>
          <a:prstGeom prst="line">
            <a:avLst/>
          </a:prstGeom>
          <a:ln w="349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57400" y="4876920"/>
            <a:ext cx="2438280" cy="91440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F2B3-E23A-4798-AFCE-179D612DAC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lpha Particle 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ame as a helium nucleu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He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e    or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wo prot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wo neutr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4772-08B7-4DA5-90BD-EAB2897EF2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219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eta Particle </a:t>
            </a:r>
            <a:r>
              <a:rPr b="1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n electron emitted from the nucleu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   or     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1" lang="en-US" sz="2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 neutron in the nucleus breaks dow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0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H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+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0                               1                -1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91120" y="3429000"/>
            <a:ext cx="13716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5105520"/>
            <a:ext cx="9907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237C-7CDA-461B-81C1-D387169B95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Gamma </a:t>
            </a:r>
            <a:r>
              <a:rPr b="1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adiation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Pure radiat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Like an X-ray but comes from the nucleu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4" name="bd05670_" descr=""/>
          <p:cNvPicPr/>
          <p:nvPr/>
        </p:nvPicPr>
        <p:blipFill>
          <a:blip r:embed="rId1"/>
          <a:stretch/>
        </p:blipFill>
        <p:spPr>
          <a:xfrm>
            <a:off x="3505320" y="4191120"/>
            <a:ext cx="1996920" cy="116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6A44-BB36-4879-824D-6103138B68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adiation Protection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hielding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alpha – paper, clothing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beta – lab coat, glov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gamma- lead, thick concret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Limit time expose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Keep distance from sourc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7" name="pe02421_" descr=""/>
          <p:cNvPicPr/>
          <p:nvPr/>
        </p:nvPicPr>
        <p:blipFill>
          <a:blip r:embed="rId1"/>
          <a:stretch/>
        </p:blipFill>
        <p:spPr>
          <a:xfrm>
            <a:off x="5791320" y="4114800"/>
            <a:ext cx="2895480" cy="241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633C-7CBE-4E10-BF26-E0045F3A10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adiation Protection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85800" y="1981080"/>
          <a:ext cx="7335720" cy="437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335720" cy="43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91FB-5825-4A38-937E-5BFD61DA3B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alancing Nuclear Equations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 the reactants and produc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tomic numbers must balan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ass numbers must balan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00CA-DE94-44DE-AB09-EB5046D7FC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0T20:48:09Z</dcterms:created>
  <dc:creator>Bill Timberlake</dc:creator>
  <dc:description/>
  <dc:language>en-US</dc:language>
  <cp:lastModifiedBy>Timberlake</cp:lastModifiedBy>
  <cp:lastPrinted>1999-05-17T20:19:48Z</cp:lastPrinted>
  <dcterms:modified xsi:type="dcterms:W3CDTF">2000-08-22T16:27:05Z</dcterms:modified>
  <cp:revision>66</cp:revision>
  <dc:subject/>
  <dc:title>Chapter 6 </dc:title>
</cp:coreProperties>
</file>